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ducation.vic.gov.au/studentlearning/teachingresources/english/literacy/concepts/1earlylangdev.htm" TargetMode="External"/><Relationship Id="rId2" Type="http://schemas.openxmlformats.org/officeDocument/2006/relationships/hyperlink" Target="http://www.education.vic.gov.au/studentlearning/teachingresources/english/literacy/concepts/stageoflearningl12.htm" TargetMode="External"/><Relationship Id="rId3" Type="http://schemas.openxmlformats.org/officeDocument/2006/relationships/hyperlink" Target="http://www.education.vic.gov.au/studentlearning/teachingresources/english/literacy/concepts/stageoflearningl12.htm" TargetMode="External"/><Relationship Id="rId4" Type="http://schemas.openxmlformats.org/officeDocument/2006/relationships/hyperlink" Target="http://www.education.vic.gov.au/studentlearning/teachingresources/english/literacy/concepts/velsenglishl12.htm" TargetMode="External"/><Relationship Id="rId5" Type="http://schemas.openxmlformats.org/officeDocument/2006/relationships/hyperlink" Target="http://www.education.vic.gov.au/studentlearning/teachingresources/english/literacy/concepts/velsenglishl12.htm" TargetMode="External"/><Relationship Id="rId6" Type="http://schemas.openxmlformats.org/officeDocument/2006/relationships/hyperlink" Target="http://www.education.vic.gov.au/studentlearning/teachingresources/english/literacy/concepts/3zpd.htm" TargetMode="External"/><Relationship Id="rId7" Type="http://schemas.openxmlformats.org/officeDocument/2006/relationships/hyperlink" Target="http://www.education.vic.gov.au/studentlearning/teachingresources/english/literacy/concepts/3zpd.htm" TargetMode="External"/><Relationship Id="rId8" Type="http://schemas.openxmlformats.org/officeDocument/2006/relationships/hyperlink" Target="http://www.education.vic.gov.au/studentlearning/teachingresources/english/literacy/concepts/3teachscaff.htm" TargetMode="External"/><Relationship Id="rId9" Type="http://schemas.openxmlformats.org/officeDocument/2006/relationships/hyperlink" Target="http://www.education.vic.gov.au/studentlearning/teachingresources/english/literacy/concepts/3teachscaff.htm" TargetMode="External"/><Relationship Id="rId10" Type="http://schemas.openxmlformats.org/officeDocument/2006/relationships/hyperlink" Target="http://www.education.vic.gov.au/studentlearning/teachingresources/english/literacy/concepts/4langandlearn.htm" TargetMode="External"/><Relationship Id="rId11" Type="http://schemas.openxmlformats.org/officeDocument/2006/relationships/hyperlink" Target="http://www.education.vic.gov.au/studentlearning/teachingresources/english/literacy/concepts/4langandlearn.htm" TargetMode="External"/><Relationship Id="rId12" Type="http://schemas.openxmlformats.org/officeDocument/2006/relationships/hyperlink" Target="http://www.education.vic.gov.au/studentlearning/teachingresources/english/literacy/concepts/5suzyrecount.htm" TargetMode="External"/><Relationship Id="rId13" Type="http://schemas.openxmlformats.org/officeDocument/2006/relationships/hyperlink" Target="http://www.education.vic.gov.au/studentlearning/teachingresources/english/literacy/concepts/5suzyrecount.htm" TargetMode="External"/><Relationship Id="rId14" Type="http://schemas.openxmlformats.org/officeDocument/2006/relationships/hyperlink" Target="http://www.education.vic.gov.au/studentlearning/teachingresources/english/literacy/concepts/6repertoires.htm" TargetMode="External"/><Relationship Id="rId15" Type="http://schemas.openxmlformats.org/officeDocument/2006/relationships/hyperlink" Target="http://www.education.vic.gov.au/studentlearning/teachingresources/english/literacy/concepts/6repertoires.htm" TargetMode="External"/><Relationship Id="rId16" Type="http://schemas.openxmlformats.org/officeDocument/2006/relationships/hyperlink" Target="http://www.education.vic.gov.au/studentlearning/teachingresources/english/literacy/concepts/7orallang.htm" TargetMode="External"/><Relationship Id="rId17" Type="http://schemas.openxmlformats.org/officeDocument/2006/relationships/hyperlink" Target="http://www.education.vic.gov.au/studentlearning/teachingresources/english/literacy/concepts/7orallang.htm" TargetMode="External"/><Relationship Id="rId18" Type="http://schemas.openxmlformats.org/officeDocument/2006/relationships/hyperlink" Target="http://www.education.vic.gov.au/studentlearning/teachingresources/english/literacy/concepts/8learntoread.htm" TargetMode="External"/><Relationship Id="rId19" Type="http://schemas.openxmlformats.org/officeDocument/2006/relationships/hyperlink" Target="http://www.education.vic.gov.au/studentlearning/teachingresources/english/literacy/concepts/8learntoread.htm" TargetMode="External"/><Relationship Id="rId20" Type="http://schemas.openxmlformats.org/officeDocument/2006/relationships/hyperlink" Target="http://www.education.vic.gov.au/studentlearning/teachingresources/english/literacy/concepts/9comprehension.htm" TargetMode="External"/><Relationship Id="rId21" Type="http://schemas.openxmlformats.org/officeDocument/2006/relationships/hyperlink" Target="http://www.education.vic.gov.au/studentlearning/teachingresources/english/literacy/concepts/9comprehension.htm" TargetMode="External"/><Relationship Id="rId22" Type="http://schemas.openxmlformats.org/officeDocument/2006/relationships/hyperlink" Target="http://www.education.vic.gov.au/studentlearning/teachingresources/english/literacy/concepts/10systeach.htm" TargetMode="External"/><Relationship Id="rId23" Type="http://schemas.openxmlformats.org/officeDocument/2006/relationships/hyperlink" Target="http://www.education.vic.gov.au/studentlearning/teachingresources/english/literacy/concepts/10systeach.htm" TargetMode="External"/><Relationship Id="rId24" Type="http://schemas.openxmlformats.org/officeDocument/2006/relationships/hyperlink" Target="http://www.education.vic.gov.au/studentlearning/teachingresources/english/literacy/concepts/11readfluency.htm" TargetMode="External"/><Relationship Id="rId25" Type="http://schemas.openxmlformats.org/officeDocument/2006/relationships/hyperlink" Target="http://www.education.vic.gov.au/studentlearning/teachingresources/english/literacy/concepts/11readfluency.htm" TargetMode="External"/><Relationship Id="rId26" Type="http://schemas.openxmlformats.org/officeDocument/2006/relationships/hyperlink" Target="http://www.education.vic.gov.au/studentlearning/teachingresources/english/literacy/concepts/12selectingtext.htm" TargetMode="External"/><Relationship Id="rId27" Type="http://schemas.openxmlformats.org/officeDocument/2006/relationships/hyperlink" Target="http://www.education.vic.gov.au/studentlearning/teachingresources/english/literacy/concepts/12selectingtext.htm" TargetMode="External"/><Relationship Id="rId28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on earth do I fit it all in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lanning and Managing the Literacy Bloc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Jigsaw Activ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small groups, match the literacy element with the description and time dur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Daily 2 hou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4102200" y="1468440"/>
            <a:ext cx="5410080" cy="770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honic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ell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ndwrit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rt/Craf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ne Motor Ski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al Langu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bafb"/>
                </a:solidFill>
                <a:latin typeface="Gill Sans"/>
              </a:rPr>
              <a:t>ENVIRONMEN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hoto Ch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can you se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es it support the learning of literac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ssessment</a:t>
            </a:r>
            <a:br>
              <a:rPr sz="8400"/>
            </a:b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Latin word “sit with’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mmative Assess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mative Assess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Garden Analog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45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If we think of our children as plants …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86cd4d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86cd4d"/>
                </a:solidFill>
                <a:latin typeface="Arial"/>
                <a:ea typeface="Arial"/>
              </a:rPr>
              <a:t>Summative assessmen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 of the plants is the process of simply measuring them. It might be interesting to compare and analyse measurements but, in themselves, these do not affect the growth of the plant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57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86cd4d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86cd4d"/>
                </a:solidFill>
                <a:latin typeface="Arial"/>
                <a:ea typeface="Arial"/>
              </a:rPr>
              <a:t>Formative assessment</a:t>
            </a:r>
            <a:r>
              <a:rPr b="0" lang="en-US" sz="4200" spc="-1" strike="noStrike">
                <a:solidFill>
                  <a:srgbClr val="86cd4d"/>
                </a:solidFill>
                <a:latin typeface="Arial"/>
                <a:ea typeface="Arial"/>
              </a:rPr>
              <a:t>,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 on the other hand, is the equivalent of feeding and watering the plants appropriate to their needs - directly affecting their growth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viding effective feedback to students.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udents’ active involvement in their own learning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djusting teaching to take account of the results of assessment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cognising the profound influence of assessment on students’ motivation and self-esteem - both crucial influences on learning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suring pupils assess themselves and understand how to improve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Picture 1" descr=""/>
          <p:cNvPicPr/>
          <p:nvPr/>
        </p:nvPicPr>
        <p:blipFill>
          <a:blip r:embed="rId1"/>
          <a:stretch/>
        </p:blipFill>
        <p:spPr>
          <a:xfrm>
            <a:off x="1247760" y="1384200"/>
            <a:ext cx="8429760" cy="561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1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essential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1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3225960" y="241200"/>
            <a:ext cx="6553080" cy="927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55240" y="3746520"/>
            <a:ext cx="10439640" cy="524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4a00e6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00e6"/>
                </a:solidFill>
                <a:latin typeface="Arial"/>
                <a:ea typeface="Arial"/>
              </a:rPr>
              <a:t>How well do you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are learning goals with students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volve students in self assessment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vide timely focused feedback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 you have confidence that every student in your class can improv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657720" indent="-422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ink now about some of the things that prevent us from assessing in a formative manner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90" name="Picture 3" descr=""/>
          <p:cNvPicPr/>
          <p:nvPr/>
        </p:nvPicPr>
        <p:blipFill>
          <a:blip r:embed="rId1"/>
          <a:stretch/>
        </p:blipFill>
        <p:spPr>
          <a:xfrm>
            <a:off x="2959200" y="3568680"/>
            <a:ext cx="8242200" cy="749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e00f0"/>
                </a:solidFill>
                <a:latin typeface="Gill Sans"/>
              </a:rPr>
              <a:t>PLANN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Plans are nothing, but planning is everything”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c632fd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632fd"/>
                </a:solidFill>
                <a:latin typeface="Gill Sans"/>
              </a:rPr>
              <a:t>Curriculum Planners-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Long Term, VELS, Brief, Data Driven, Collegi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ae00f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Gill Sans"/>
              </a:rPr>
              <a:t>Weekly Planners-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hort Term, Teaching Activities, Fluid, Assessment Driven, Differentiated, Collegi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 to consider when plann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84280" y="2768760"/>
            <a:ext cx="11150640" cy="688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has your assessment data (as, of ,for) indicated this term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have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Papyrus"/>
                <a:ea typeface="Papyrus"/>
              </a:rPr>
              <a:t>students learnt</a:t>
            </a: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 in our classroom this term? Why have they been learning this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are the students finding challenging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Share a successful lesson. Why was it successful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do we expect them to learn next term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How will we know when they have learnt it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How will we respond when they don’t learn it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How will we respond when they already know it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support and professional learning can we access this term to build your teaching capacity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  <a:ea typeface="Papyrus"/>
              </a:rPr>
              <a:t>What are the instructional groups within your classroom? How do you know this? How have you personalised the learning around their needs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able Protocol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1640" y="2082960"/>
            <a:ext cx="11303280" cy="640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dentify facilitator at the table. Facilitator will act as time keep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person to share the process and templates they use for planning at their school(2 minutes each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 a table discuss the following 3 questions; 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267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have the students learnt in your classroom this term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24267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did/will you do when students did not learn it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2426760" indent="-51984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re a successful lesson. Why was it successful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04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ntent Knowled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01440" y="1359000"/>
            <a:ext cx="10769400" cy="8407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737640" indent="-474120">
              <a:lnSpc>
                <a:spcPct val="100000"/>
              </a:lnSpc>
              <a:spcBef>
                <a:spcPts val="24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Early language development - before school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ncludes information on how children learn and begin to understand language. It includes links to resources for teachers including a video transcript for professional learning (Wells, Snow et al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ct val="100000"/>
              </a:lnSpc>
              <a:spcBef>
                <a:spcPts val="24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Victorian Essential Learning Standards - Stages of Learning: Laying the foundatio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ns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ncludes information on the key characteristics of students as they progress through the particular stages of learn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Victorian Essential Learning Standards English doma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in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ncludes introduction to the English domain, learning focus statements and standards at Levels 1 and 2 in the dimensions of Speaking and listening, Reading and Writing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Zone of Proximal Development &amp; Scaffold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ng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Describes in detail the theories of scaffolding from Vygotsky, Bruner and Rogoff and includes a professional learning activity (Vygotsky, Bruner, Rogoff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9"/>
              </a:rPr>
              <a:t>Teacher scaffolding in the classro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om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dentifies two types of scaffolding: ‘designed in’ and ‘point of need’, their benefits and how to use them effectively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1"/>
              </a:rPr>
              <a:t>Language and learn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ng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ncludes research from Halliday about the relationship between language and thinking/knowing and learning (Hallida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3"/>
              </a:rPr>
              <a:t>Developing literate langua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ge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Uses the recount of six-year old Suzy to illustrate the differences between written and spoken-like language in developing literate language (Christie, Clay and Wells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5"/>
              </a:rPr>
              <a:t>Repertoires of langua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ge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Explores the repertoires of language - the knowledge of a language required to attain literacy and includes a professional learning activity (Gee, Halliday and Snow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7"/>
              </a:rPr>
              <a:t>Oral language and schooling - Speaking and listen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ng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Examines the theory of Gordon Wells that oral language is a crucial resource in student learning and literacy development. These concepts are explored through two teacher activities (Wells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9"/>
              </a:rPr>
              <a:t>Learning to re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ad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Examines key theories about reading from the theorists: Marie Clay, Luke and Freebody and John Munro and includes a professional learning activity (Clay, Luke and Freebody, Munro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1"/>
              </a:rPr>
              <a:t>Comprehens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on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Includes a definition of comprehension and related foundational skills and processes. It also explores how vocabulary, world knowledge and purposes for reading affect comprehension (Brown, Palincsar, Pinnell, Pressle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3"/>
              </a:rPr>
              <a:t>Systematic teaching of phon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cs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Examines Wray’s theory on the teaching of phonics and the recommendations from the National Inquiry into the Teaching of Literacy 2005 on the teaching of phonics and includes a professional learning activity (Wra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5"/>
              </a:rPr>
              <a:t>Oral reading fluen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cy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Defines the term ‘fluency’, looks at the theory behind it and provides links to additional reading material on the subject (Chall, Kuhn, Rasinski, Stahl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		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7"/>
              </a:rPr>
              <a:t>Selecting appropriate texts to support literacy learni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ng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Deals with the process of selecting appropriate texts for Levels 1 and 2, the characteristics of the texts, text and genre structure and the factors which influence text selection and includes a professional learning activity (Anderson, Freebod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Learning to write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Examines the complex process of writing with consideration of audience and purpose and includes a professional learning activity (Clay, Munro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Reciprocal relationship of language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Outlines the reciprocal relationship between oral language, reading and writing which underpins effective literacy learning and teaching and includes a professional learning activity (Cla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567ad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567ad"/>
                </a:solidFill>
                <a:latin typeface="Arial"/>
              </a:rPr>
              <a:t>	</a:t>
            </a:r>
            <a:r>
              <a:rPr b="0" lang="en-US" sz="1300" spc="-1" strike="noStrike" u="sng">
                <a:solidFill>
                  <a:srgbClr val="3567ad"/>
                </a:solidFill>
                <a:uFillTx/>
                <a:latin typeface="Arial"/>
                <a:ea typeface="Arial"/>
              </a:rPr>
              <a:t>Literacy demands within the Victorian Essential Learning Standards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 – Highlights the literacy demands within the following domains: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33333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Health and Physical Educati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33333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Interpersonal Developmen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33333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The Art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33333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Mathematic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marL="737640" indent="-474120">
              <a:lnSpc>
                <a:spcPts val="1800"/>
              </a:lnSpc>
              <a:spcBef>
                <a:spcPts val="601"/>
              </a:spcBef>
              <a:buClr>
                <a:srgbClr val="333333"/>
              </a:buClr>
              <a:buSzPct val="171000"/>
              <a:buFont typeface="Gill San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  <a:ea typeface="Arial"/>
              </a:rPr>
              <a:t>Information and Communications Technology ICT (Level 2 only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Gill Sans"/>
              </a:rPr>
              <a:t>http://www.eduweb.vic.gov.au/edulibrary/public/teachlearn/student/keycharliteracyp6.pd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Bundling Activit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ake 3 post it notes ea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ot down 3 essential parts to any EY literacy block (one per post it not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hare at t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ndle post it notes into groups with head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ffective Teache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269720" y="2133360"/>
            <a:ext cx="10807560" cy="742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Have a  balanced approach to literacy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Explicitly teach a range of literacy skills and knowledge through demonstration and modelling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rebuchet MS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rebuchet MS"/>
                <a:ea typeface="Trebuchet MS"/>
              </a:rPr>
              <a:t>(modelling, guiding, sharing, scaffolding)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Place great emphasis on student's knowledge of the purpose and function of reading and writing and the enabling strategies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Trebuchet MS"/>
              </a:rPr>
              <a:t>Make connections across areas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Maximise time on task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Balance individual with small-group and whole-class instruction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Trebuchet MS"/>
              </a:rPr>
              <a:t>Ask questions related to decisions and strategies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Trebuchet MS"/>
              </a:rPr>
              <a:t>Teach at a brisk pace, regularly refocusing students’ attention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  <a:ea typeface="Trebuchet MS"/>
              </a:rPr>
              <a:t>Have clear assessment procedures, including focused observations and systematic record keeping.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 algn="r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Trebuchet MS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 algn="r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ray et.al.2000 in Research eLert No. 9, August 2006 DE&amp;T Victoria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marL="8532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dagogical knowled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ent Knowledge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Outlin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66b132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Gill Sans"/>
              </a:rPr>
              <a:t>Struct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bafb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afb"/>
                </a:solidFill>
                <a:latin typeface="Gill Sans"/>
              </a:rPr>
              <a:t>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ae00f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Gill Sans"/>
              </a:rPr>
              <a:t>Assess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fe7038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7038"/>
                </a:solidFill>
                <a:latin typeface="Gill Sans"/>
              </a:rPr>
              <a:t>Plann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6cd4d"/>
                </a:solidFill>
                <a:latin typeface="Gill Sans"/>
              </a:rPr>
              <a:t>STRUCTUR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Literacy Element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5000"/>
          </a:bodyPr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ad Alou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red Rea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uided Rea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dependent Read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rite Alou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red Wri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uided Wri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446040" indent="-271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dependent Writ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65" name="Picture 3" descr=""/>
          <p:cNvPicPr/>
          <p:nvPr/>
        </p:nvPicPr>
        <p:blipFill>
          <a:blip r:embed="rId1"/>
          <a:stretch/>
        </p:blipFill>
        <p:spPr>
          <a:xfrm>
            <a:off x="5396040" y="2641680"/>
            <a:ext cx="1652400" cy="35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radual Release of Responsibilit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7" name="Picture 2" descr=""/>
          <p:cNvPicPr/>
          <p:nvPr/>
        </p:nvPicPr>
        <p:blipFill>
          <a:blip r:embed="rId1"/>
          <a:stretch/>
        </p:blipFill>
        <p:spPr>
          <a:xfrm>
            <a:off x="1536840" y="2413080"/>
            <a:ext cx="9931320" cy="492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Kylie Lipscombe</cp:lastModifiedBy>
  <dcterms:modified xsi:type="dcterms:W3CDTF">2010-03-29T06:08:38Z</dcterms:modified>
  <cp:revision>1</cp:revision>
  <dc:subject/>
  <dc:title>How on earth do I fit it all in?</dc:title>
</cp:coreProperties>
</file>